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7.png" ContentType="image/png"/>
  <Override PartName="/ppt/media/image1.jpeg" ContentType="image/jpeg"/>
  <Override PartName="/ppt/media/image18.pct" ContentType="image/x-pict"/>
  <Override PartName="/ppt/media/image4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http://c2.com/cgi/wiki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c2.com/cgi/wiki" TargetMode="External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c2.com/cgi/wiki" TargetMode="External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en.wikipedia.org/wiki/Image:HNL_Wiki_Wiki_Bus.jpg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http://universaleditbutton.org/Universal_Edit_Button" TargetMode="External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hyperlink" Target="http://c2.com/cgi/wiki" TargetMode="External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2.com/cgi/wiki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0" y="0"/>
            <a:ext cx="9461520" cy="7709040"/>
            <a:chOff x="0" y="0"/>
            <a:chExt cx="9461520" cy="7709040"/>
          </a:xfrm>
        </p:grpSpPr>
        <p:pic>
          <p:nvPicPr>
            <p:cNvPr id="527" name="" descr=""/>
            <p:cNvPicPr/>
            <p:nvPr/>
          </p:nvPicPr>
          <p:blipFill>
            <a:blip r:embed="rId2"/>
            <a:stretch/>
          </p:blipFill>
          <p:spPr>
            <a:xfrm>
              <a:off x="4292640" y="0"/>
              <a:ext cx="4086360" cy="40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3"/>
            <a:stretch/>
          </p:blipFill>
          <p:spPr>
            <a:xfrm>
              <a:off x="1116000" y="1390680"/>
              <a:ext cx="4309920" cy="43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4"/>
            <a:stretch/>
          </p:blipFill>
          <p:spPr>
            <a:xfrm>
              <a:off x="5081760" y="1355760"/>
              <a:ext cx="43797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5"/>
            <a:stretch/>
          </p:blipFill>
          <p:spPr>
            <a:xfrm>
              <a:off x="0" y="3605040"/>
              <a:ext cx="4103640" cy="41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6"/>
            <a:stretch/>
          </p:blipFill>
          <p:spPr>
            <a:xfrm>
              <a:off x="3159000" y="2960640"/>
              <a:ext cx="3382920" cy="431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-63360" y="-12600"/>
            <a:ext cx="6095880" cy="60958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8"/>
          <a:stretch/>
        </p:blipFill>
        <p:spPr>
          <a:xfrm>
            <a:off x="-63360" y="662940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2514600"/>
            <a:ext cx="10464840" cy="3301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ikis, Wikimedia, and Communit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266760" y="311040"/>
            <a:ext cx="5981760" cy="11430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Brion Vibb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CTO, Wikimedia Foun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4762440" y="311040"/>
            <a:ext cx="7962840" cy="11430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Online Community Report Meetu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San Francisco, CA 2008-10-22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ikipedia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9221760" y="2998080"/>
            <a:ext cx="24483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ikiped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2001-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"/>
          <p:cNvSpPr/>
          <p:nvPr/>
        </p:nvSpPr>
        <p:spPr>
          <a:xfrm>
            <a:off x="8686800" y="5137200"/>
            <a:ext cx="3886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unch of geeks writing about geeky thing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ike Physic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98280" y="2425680"/>
            <a:ext cx="8691840" cy="63882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534120" y="8659800"/>
            <a:ext cx="5936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3"/>
              </a:rPr>
              <a:t>http://en.wikipedia.org/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ikipedia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9221760" y="2998080"/>
            <a:ext cx="24483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ikiped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2001-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>
            <a:off x="8686800" y="5137200"/>
            <a:ext cx="3886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unch of geeks writing about geeky thing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ike Politic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98280" y="2424240"/>
            <a:ext cx="8691840" cy="63878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3534120" y="8659800"/>
            <a:ext cx="5936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3"/>
              </a:rPr>
              <a:t>http://en.wikipedia.org/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ikipedia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9221760" y="2998080"/>
            <a:ext cx="24483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ikiped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2001-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8686800" y="5137200"/>
            <a:ext cx="3886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unch of geeks writing about geeky thing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ike Poet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98280" y="2425680"/>
            <a:ext cx="8693280" cy="6388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534120" y="8659800"/>
            <a:ext cx="5936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3"/>
              </a:rPr>
              <a:t>http://en.wikipedia.org/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120636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ey, where’s the people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3683160" y="4419720"/>
            <a:ext cx="4736880" cy="47368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914760" y="3031560"/>
            <a:ext cx="1588680" cy="43894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800" spc="-1" strike="noStrike">
                <a:solidFill>
                  <a:srgbClr val="ffffff"/>
                </a:solidFill>
                <a:latin typeface="Gill Sans"/>
                <a:ea typeface="Gill Sans"/>
              </a:rPr>
              <a:t>?</a:t>
            </a:r>
            <a:endParaRPr b="0" lang="en-US" sz="28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9296640" y="5304600"/>
            <a:ext cx="1588680" cy="43894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800" spc="-1" strike="noStrike">
                <a:solidFill>
                  <a:srgbClr val="ffffff"/>
                </a:solidFill>
                <a:latin typeface="Gill Sans"/>
                <a:ea typeface="Gill Sans"/>
              </a:rPr>
              <a:t>?</a:t>
            </a:r>
            <a:endParaRPr b="0" lang="en-US" sz="28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10757160" y="1913760"/>
            <a:ext cx="1588680" cy="43894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800" spc="-1" strike="noStrike">
                <a:solidFill>
                  <a:srgbClr val="ffffff"/>
                </a:solidFill>
                <a:latin typeface="Gill Sans"/>
                <a:ea typeface="Gill Sans"/>
              </a:rPr>
              <a:t>?</a:t>
            </a:r>
            <a:endParaRPr b="0" lang="en-US" sz="28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re are two kinds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me wikis are places to talk or organize around some theme or idea - </a:t>
            </a:r>
            <a:r>
              <a:rPr b="0" lang="en-US" sz="4200" spc="-1" strike="noStrike">
                <a:solidFill>
                  <a:srgbClr val="ffcc66"/>
                </a:solidFill>
                <a:latin typeface="Gill Sans"/>
              </a:rPr>
              <a:t>Ward’s Wiki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me wikis have a “content creation” goal -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Wikipedia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Wookieepedia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WikiHow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 et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ut really, there is on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People communicate and organize around the wiki!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On-wiki channel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iscussion pages on-wiki, attached to content: 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Talk:Philosoph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Talk:Sara Pali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r-to-user messages, attached to individuals: 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User talk:Brion VIBB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neral discussion areas on wiki:</a:t>
            </a:r>
            <a:r>
              <a:rPr b="0" lang="en-US" sz="4200" spc="-1" strike="noStrike">
                <a:solidFill>
                  <a:srgbClr val="999999"/>
                </a:solidFill>
                <a:latin typeface="Gill Sans"/>
              </a:rPr>
              <a:t>       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Wikipedia:Village Pump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   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Wikipedia:Articles For Dele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 et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ack channel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69720" y="2629080"/>
            <a:ext cx="10464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RC chat - </a:t>
            </a:r>
            <a:r>
              <a:rPr b="0" lang="en-US" sz="4200" spc="-1" strike="noStrike">
                <a:solidFill>
                  <a:srgbClr val="ffcc66"/>
                </a:solidFill>
                <a:latin typeface="Gill Sans"/>
              </a:rPr>
              <a:t>#wikipedia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4200" spc="-1" strike="noStrike">
                <a:solidFill>
                  <a:srgbClr val="ffcc66"/>
                </a:solidFill>
                <a:latin typeface="Gill Sans"/>
              </a:rPr>
              <a:t>#wikimedia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 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iling lists - </a:t>
            </a:r>
            <a:r>
              <a:rPr b="0" lang="en-US" sz="4200" spc="-1" strike="noStrike">
                <a:solidFill>
                  <a:srgbClr val="ffcc66"/>
                </a:solidFill>
                <a:latin typeface="Gill Sans"/>
              </a:rPr>
              <a:t>lists.wikimedia.or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logs - </a:t>
            </a:r>
            <a:r>
              <a:rPr b="0" lang="en-US" sz="4200" spc="-1" strike="noStrike">
                <a:solidFill>
                  <a:srgbClr val="ffcc66"/>
                </a:solidFill>
                <a:latin typeface="Gill Sans"/>
              </a:rPr>
              <a:t>planet.wikimedia.or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ySpace/FaceBook/Twitter/identi.ca/whateva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eetup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ferences - </a:t>
            </a:r>
            <a:r>
              <a:rPr b="0" lang="en-US" sz="4200" spc="-1" strike="noStrike">
                <a:solidFill>
                  <a:srgbClr val="ffcc66"/>
                </a:solidFill>
                <a:latin typeface="Gill Sans"/>
              </a:rPr>
              <a:t>Wikiman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do they talk abou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rticle edits -- </a:t>
            </a:r>
            <a:r>
              <a:rPr b="1" lang="en-US" sz="4200" spc="-1" strike="noStrike">
                <a:solidFill>
                  <a:srgbClr val="66ccff"/>
                </a:solidFill>
                <a:latin typeface="Gill Sans"/>
              </a:rPr>
              <a:t>goal-oriented 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ehavior of other users -- </a:t>
            </a:r>
            <a:r>
              <a:rPr b="1" lang="en-US" sz="4200" spc="-1" strike="noStrike">
                <a:solidFill>
                  <a:srgbClr val="66ccff"/>
                </a:solidFill>
                <a:latin typeface="Gill Sans"/>
              </a:rPr>
              <a:t>oper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andom stuff -- </a:t>
            </a:r>
            <a:r>
              <a:rPr b="1" lang="en-US" sz="4200" spc="-1" strike="noStrike">
                <a:solidFill>
                  <a:srgbClr val="ffcc66"/>
                </a:solidFill>
                <a:latin typeface="Gill Sans"/>
              </a:rPr>
              <a:t>social hango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’s importan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hared goal --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feeling of purpo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dministrative processes --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feeling involved and successfu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cial acceptance -- </a:t>
            </a:r>
            <a:r>
              <a:rPr b="0" lang="en-US" sz="4200" spc="-1" strike="noStrike">
                <a:solidFill>
                  <a:srgbClr val="ffcc66"/>
                </a:solidFill>
                <a:latin typeface="Gill Sans"/>
              </a:rPr>
              <a:t>and it’s fun, too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ikipedia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95360" y="2450880"/>
            <a:ext cx="7531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rted 2001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2.5 million articles in Englis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illions more in 200+ languag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bsite? Community? Encyclopedia? All of the abov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629400" y="3657600"/>
            <a:ext cx="60958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ommunity structure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69720" y="11682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66cc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Horizontal structur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-- jes’ a bunch of folk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ut... they </a:t>
            </a: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do stuff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n groups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2438280" y="5499000"/>
            <a:ext cx="8128080" cy="32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-7632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re is no cabal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5232240" y="1943280"/>
            <a:ext cx="2540160" cy="243828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4905720" y="2721240"/>
            <a:ext cx="318132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Jimmy Wa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4432320" y="4572000"/>
            <a:ext cx="4127400" cy="1409760"/>
          </a:xfrm>
          <a:prstGeom prst="roundRect">
            <a:avLst>
              <a:gd name="adj" fmla="val 1350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5107320" y="4636440"/>
            <a:ext cx="27788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rbitr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mmitte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46120" y="8077320"/>
            <a:ext cx="1270080" cy="12697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1892160" y="8077320"/>
            <a:ext cx="1270080" cy="12697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3238560" y="8077320"/>
            <a:ext cx="1270080" cy="12697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4584600" y="8077320"/>
            <a:ext cx="1270080" cy="12697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5931000" y="8077320"/>
            <a:ext cx="1270080" cy="12697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7277040" y="8077320"/>
            <a:ext cx="1270080" cy="12697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8623440" y="8077320"/>
            <a:ext cx="1269720" cy="12697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9969480" y="8077320"/>
            <a:ext cx="1270080" cy="12697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1315880" y="8077320"/>
            <a:ext cx="1269720" cy="12697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1009440" y="8385480"/>
            <a:ext cx="1097352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ebcomic artists whose articles get delet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3759120" y="6527880"/>
            <a:ext cx="1270080" cy="1270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5130720" y="6527880"/>
            <a:ext cx="1270080" cy="1270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6502320" y="6527880"/>
            <a:ext cx="1270080" cy="1270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7873920" y="6527880"/>
            <a:ext cx="1270080" cy="1270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3399120" y="6836040"/>
            <a:ext cx="6195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hadowy cabal of sysop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10635120" y="6162840"/>
            <a:ext cx="297396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ower sca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12509640" y="1382760"/>
            <a:ext cx="0" cy="7265880"/>
          </a:xfrm>
          <a:prstGeom prst="line">
            <a:avLst/>
          </a:prstGeom>
          <a:ln w="1015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No, really...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ixed models: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66cc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Self-organiza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round interests and themes: 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WikiProject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- operation by action and consensu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cc66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Gill Sans"/>
              </a:rPr>
              <a:t>Mediated organiza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or administrative work: </a:t>
            </a:r>
            <a:r>
              <a:rPr b="0" lang="en-US" sz="4200" spc="-1" strike="noStrike">
                <a:solidFill>
                  <a:srgbClr val="ffcc66"/>
                </a:solidFill>
                <a:latin typeface="Gill Sans"/>
              </a:rPr>
              <a:t>dispute resolu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- candidates chosen by vote out of the commun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ow to use a wiki effectively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cc66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Gill Sans"/>
              </a:rPr>
              <a:t>Just do it!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t one up or find a hosting servic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66cc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But... it’s not magic.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“It’s not just a wiki machine - it doesn’t work out if you don’t work at it.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ossible wiki role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cumentation -- “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conten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6648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Just about any organization can benefit from having a place where it’s easy to slap up notes and documen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6648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s is the easiest thing to start with; even if nobody else uses it, at least you’re putting your documentation somewhere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ossible wiki role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rganization hub -- “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project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ce people are used to putting completed documentation on the wiki, it becomes an obvious place to put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in-progres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documents and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planning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eople discover they can become </a:t>
            </a:r>
            <a:r>
              <a:rPr b="0" lang="en-US" sz="4200" spc="-1" strike="noStrike">
                <a:solidFill>
                  <a:srgbClr val="66ccff"/>
                </a:solidFill>
                <a:latin typeface="Gill Sans"/>
              </a:rPr>
              <a:t>involv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n the planning process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ossible wiki role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cial hangout - “</a:t>
            </a:r>
            <a:r>
              <a:rPr b="0" lang="en-US" sz="4200" spc="-1" strike="noStrike">
                <a:solidFill>
                  <a:srgbClr val="ffcc66"/>
                </a:solidFill>
                <a:latin typeface="Gill Sans"/>
              </a:rPr>
              <a:t>networking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eople like to talk about shared interes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cc66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Gill Sans"/>
              </a:rPr>
              <a:t>Making work fu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makes it less like work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king fun productive makes work its own reward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Questions and more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1194480" y="8461800"/>
            <a:ext cx="10604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Gill Sans"/>
                <a:ea typeface="Gill Sans"/>
              </a:rPr>
              <a:t>http://leuksman.com/pages/present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ikimedia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17160" y="2057040"/>
            <a:ext cx="621036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501(c)3 char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nded 2003 to operate and support Wikiped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orn from, serving, and guiding the commun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bout 20 staff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2008-2009 budget: $6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6781680" y="3479760"/>
            <a:ext cx="609624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e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69440" y="2234880"/>
            <a:ext cx="6527880" cy="666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ikipedian since 2001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intaing MediaWiki software since 2002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ikimedia Foundation CTO since 2005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nual budget much less than $6M, but I accept donations to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658280" y="2286000"/>
            <a:ext cx="4762440" cy="63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’s a dang Wiki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2438280" y="270504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228600" y="9036000"/>
            <a:ext cx="1299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3"/>
              </a:rPr>
              <a:t>http://commons.wikimedia.org/wiki/Image:HNL_Wiki_Wiki_Bus.jpg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3086280" y="8966160"/>
            <a:ext cx="11430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a Wiki </a:t>
            </a:r>
            <a:r>
              <a:rPr b="0" i="1" lang="en-US" sz="8400" spc="-1" strike="noStrike">
                <a:solidFill>
                  <a:srgbClr val="ffffff"/>
                </a:solidFill>
                <a:latin typeface="Gill Sans"/>
              </a:rPr>
              <a:t>does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581280" y="2727360"/>
            <a:ext cx="6172200" cy="6200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4766400" y="9275040"/>
            <a:ext cx="37818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3"/>
              </a:rPr>
              <a:t>http://universaleditbutton.org/Universal_Edit_Button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a wiki </a:t>
            </a:r>
            <a:r>
              <a:rPr b="0" i="1" lang="en-US" sz="8400" spc="-1" strike="noStrike">
                <a:solidFill>
                  <a:srgbClr val="ffffff"/>
                </a:solidFill>
                <a:latin typeface="Gill Sans"/>
              </a:rPr>
              <a:t>is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4214520" y="3889800"/>
            <a:ext cx="4563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iki is commun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3714480" y="4905720"/>
            <a:ext cx="5563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iki is document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4753800" y="3051720"/>
            <a:ext cx="3484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iki is proj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3268080" y="5794920"/>
            <a:ext cx="645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iki is organizational hub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2396880" y="6755040"/>
            <a:ext cx="8198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ill Sans"/>
                <a:ea typeface="Gill Sans"/>
              </a:rPr>
              <a:t>Wiki is people!</a:t>
            </a:r>
            <a:endParaRPr b="0" lang="en-US" sz="9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primeval soup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196920" y="2019240"/>
            <a:ext cx="8477280" cy="72010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8849160" y="2998080"/>
            <a:ext cx="3195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ard’s wiki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1995-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>
            <a:off x="3774240" y="8659800"/>
            <a:ext cx="5458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3"/>
              </a:rPr>
              <a:t>http://c2.com/cgi/wiki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>
            <a:off x="8686800" y="5137200"/>
            <a:ext cx="3886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unch of geeks writing about geeky thing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ike Programm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ikipedia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9221760" y="2998080"/>
            <a:ext cx="24483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ikiped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2001-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"/>
          <p:cNvSpPr/>
          <p:nvPr/>
        </p:nvSpPr>
        <p:spPr>
          <a:xfrm>
            <a:off x="3534120" y="8659800"/>
            <a:ext cx="5936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2"/>
              </a:rPr>
              <a:t>http://en.wikipedia.org/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8686800" y="5137200"/>
            <a:ext cx="3886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unch of geeks writing about geeky thing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ike Pokém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101520" y="2425680"/>
            <a:ext cx="8691480" cy="638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